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8BA-E2A3-45D2-A70A-2A40D01B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5AE-6FD9-4D34-8726-09A1CE35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608-D2CB-4E33-A25C-D14995AA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E02-20CD-4EDE-B889-8D9F0A3B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38D-8083-49BD-8C9B-B0D27F62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408-4FDD-433B-9671-19349305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E6A-41E5-42A1-8900-94AB4561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C10-CAEA-4F65-97A2-501D5460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453-3C8F-44A9-84BB-4D4F4B2B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8B6-1B78-4D10-92F5-B2E4AEBC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61B-9841-4850-8BB0-93E2178D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B47-B2FC-49D4-A608-68C51B1E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02DD-82A7-4D7C-9FA7-CBFCE184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Grapevinesnail_01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animaldiversity.ummz.umich.edu/site/resources/Grzimek_insects/Blattodea/Blatta_orientalis.jpg/view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88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8800" spc="-1" strike="noStrike">
                <a:solidFill>
                  <a:srgbClr val="00ff00"/>
                </a:solidFill>
                <a:latin typeface="Arial"/>
              </a:rPr>
              <a:t>e </a:t>
            </a:r>
            <a:r>
              <a:rPr b="1" lang="en-US" sz="8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88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en-US" sz="88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8800" spc="-1" strike="noStrike">
                <a:solidFill>
                  <a:srgbClr val="9900cc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1" lang="en-US" sz="8800" spc="-1" strike="noStrike">
                <a:solidFill>
                  <a:srgbClr val="ffff66"/>
                </a:solidFill>
                <a:latin typeface="Arial"/>
              </a:rPr>
              <a:t>f  </a:t>
            </a:r>
            <a:r>
              <a:rPr b="1" lang="en-US" sz="8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1" lang="en-US" sz="88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1" lang="en-US" sz="8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en-US" sz="8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8800" spc="-1" strike="noStrike">
                <a:solidFill>
                  <a:srgbClr val="9900cc"/>
                </a:solidFill>
                <a:latin typeface="Arial"/>
              </a:rPr>
              <a:t>c</a:t>
            </a:r>
            <a:r>
              <a:rPr b="1" lang="en-US" sz="88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8800" spc="-1" strike="noStrike">
                <a:solidFill>
                  <a:srgbClr val="ffff66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y: Heather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i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ac th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th only likes to come out at n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likes to sleep when it is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272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Jj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ne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et th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e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g likes to eat fruit that’s swe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ummy, what a t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Kk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tyd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le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ydid likes to s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ay hear him in summer or in spr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Ll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dybu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y th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ybug beats his wings 85 times a second when he fli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oesn’t even matter what his siz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Mm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squi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y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quito likes to feed on some people more than oth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better get some bug spray from your mothe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 u="sng">
                <a:solidFill>
                  <a:srgbClr val="9900cc"/>
                </a:solidFill>
                <a:uFillTx/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Nn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see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han the noseeum gets his name from being so ti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he bites you, you may become whin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nosee1.gif (6853 bytes)"/>
          <p:cNvPicPr/>
          <p:nvPr/>
        </p:nvPicPr>
        <p:blipFill>
          <a:blip r:embed="rId1"/>
          <a:stretch/>
        </p:blipFill>
        <p:spPr>
          <a:xfrm>
            <a:off x="3048120" y="3200400"/>
            <a:ext cx="3271680" cy="1828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Oo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ange Bee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elia 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beetle can give you a blis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her away from you and your sis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66"/>
                </a:solidFill>
                <a:latin typeface="Arial"/>
              </a:rPr>
              <a:t>Pp</a:t>
            </a: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58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raying Mantis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l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ying mantis has front legs equipped with sharp spik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ikes, Yikes, Yik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24080" y="3276720"/>
            <a:ext cx="3272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Qq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 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een B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intana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een bee is the mother of all the bees in the hi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must be important to keep her al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Rr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 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a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an the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ach can hold his breath for more than a half an hou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ow, I bet that takes a lot of pow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A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 can lift 20 times his own body we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w, that’s really gr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27672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S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y th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il is very sl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Sally, go Sally, go, go, g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Roman snail (Helix pomatia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4290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Tt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m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ker th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mite likes to eat woo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bet that doesn’t taste very go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 u="sng">
                <a:solidFill>
                  <a:srgbClr val="9900cc"/>
                </a:solidFill>
                <a:uFillTx/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00cc"/>
                </a:solidFill>
                <a:latin typeface="Arial"/>
              </a:rPr>
              <a:t>Uu</a:t>
            </a: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58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5800" spc="-1" strike="noStrike">
                <a:solidFill>
                  <a:srgbClr val="ffffff"/>
                </a:solidFill>
                <a:latin typeface="Arial"/>
              </a:rPr>
              <a:t>nicorn Beetl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sula the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corn beetle has horns on her he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bet you wouldn’t want to find her crawling in your b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004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ff"/>
                </a:solidFill>
                <a:latin typeface="Arial"/>
              </a:rPr>
              <a:t>Vv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56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iceroy Butterfl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tor 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roy butterfly likes to feed on flow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also likes the water that comes from April show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Ww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ter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a th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er bug likes to live in areas that are dam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may even find her at your cam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Xx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E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skelet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keleton is what protects the insects body from a strang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come in all shapes and sizes and help keep them out of dang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095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Yy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llow Jack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anda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ow jacket is known for being very me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don’t watch out she may s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Zz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bra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utter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k th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bra butterfly does not like the co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its not warm he must leave we are to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3272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Arial"/>
              </a:rPr>
              <a:t>T</a:t>
            </a:r>
            <a:r>
              <a:rPr b="1" lang="en-US" sz="9600" spc="-1" strike="noStrike">
                <a:solidFill>
                  <a:srgbClr val="ffff66"/>
                </a:solidFill>
                <a:latin typeface="Arial"/>
              </a:rPr>
              <a:t>H</a:t>
            </a:r>
            <a:r>
              <a:rPr b="1" lang="en-US" sz="9600" spc="-1" strike="noStrike">
                <a:solidFill>
                  <a:srgbClr val="00ff00"/>
                </a:solidFill>
                <a:latin typeface="Arial"/>
              </a:rPr>
              <a:t>E </a:t>
            </a: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1" lang="en-US" sz="96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 u="sng">
                <a:solidFill>
                  <a:srgbClr val="ffff66"/>
                </a:solidFill>
                <a:uFillTx/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Bb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 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tter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ky th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terfly can taste with her fe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, that’s really ne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2716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 u="sng">
                <a:solidFill>
                  <a:srgbClr val="00ff00"/>
                </a:solidFill>
                <a:uFillTx/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Cc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ick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ristopher the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k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hirp 60 times a minu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2720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Dd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agon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la the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gonfly eats mosquito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w that’s really neat o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8120" y="3200400"/>
            <a:ext cx="25416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E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rthw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 th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hworm can replace a missing body par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, he must really be smar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Ff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re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cis th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efly can produce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w, what a sight that must be at n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272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 u="sng">
                <a:solidFill>
                  <a:srgbClr val="9900cc"/>
                </a:solidFill>
                <a:uFillTx/>
                <a:latin typeface="Arial"/>
              </a:rPr>
              <a:t>G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Gg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is for </a:t>
            </a: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asshopp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y the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sshopper can travel up to 29 feet in one ho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must be like watching popcorn po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272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G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</a:rPr>
              <a:t>H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J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H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s fo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orse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ah 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sefly likes to bi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w, that’s really a f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271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7:45:10Z</dcterms:created>
  <dc:creator>Heather Ann Wilson</dc:creator>
  <dc:description/>
  <dc:language>en-US</dc:language>
  <cp:lastModifiedBy>Heather Ann Wilson</cp:lastModifiedBy>
  <dcterms:modified xsi:type="dcterms:W3CDTF">2008-03-25T16:33:13Z</dcterms:modified>
  <cp:revision>11</cp:revision>
  <dc:subject/>
  <dc:title>Slide 1</dc:title>
</cp:coreProperties>
</file>